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3E6-C1AA-4451-BAFA-4CFEFB25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4FD-292E-494C-9F2D-6F6F0740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B3A-D932-4AC3-AF53-FF09298E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092-A3A7-42B5-B508-9655AE74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311-4025-4234-9845-72990F5E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EEE-BE86-4D3D-9FCD-944A5E6D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4570-A180-437C-AFA3-E6A90A1F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3B4-A540-49B4-B187-08BE0459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6FE-5EEA-4275-B02B-7FC28144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216-2587-4B56-9FB7-02FA8AD9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27A-314E-4E30-A2D3-8733CCD7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99B-0574-458F-973F-7BB48340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9FD1-EAC1-421D-8ACB-AAAAD9007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276360"/>
            <a:ext cx="6553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inted Faces &amp; Long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:  What’s this chapter going to be about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fire!  The shi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s 67-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e was dead.  They saw that straight away;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aw what they had really known down on the beach when the smoke of home beckon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The fire was out, smokeless and dead; the watchers were gone.  A pile of unused fuel lay ready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2 jobs for these pag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68-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entence with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PERSO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:  How will the relationship between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Jack &amp; Ral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rt to change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:  J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es he feel right 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:  Does he Like/Dislike kil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ind was crowded with memories; memories of the knowledge that had come to them when they closed in on the struggling pig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nowledge that they had outwitted a living t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osed their will upon it, taken away its li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ke a long satisfying dr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side would you be 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boys faced each other. 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There was the brilliant world of hunting, tactics, fierce exhilaration, sk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(Jack’s world)   and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there was the world of longing and baffled common se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(Ralph’s world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oys are starting to take sid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zz from the hunters was one of admiration at this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handsome behavi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his “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handsome behavi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ggy:  </a:t>
            </a:r>
            <a:r>
              <a:rPr b="1" lang="en-US" sz="4000" spc="-1" strike="noStrike" u="sng">
                <a:solidFill>
                  <a:srgbClr val="0066ff"/>
                </a:solidFill>
                <a:uFillTx/>
                <a:latin typeface="Arial"/>
              </a:rPr>
              <a:t>Friend or Fo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Ral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 even Ralph knew how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 link between him and Jack had been snapp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stened elsewhe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y get that pi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onflic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:  William Golding keeps giving us confl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lph watched them,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envi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resent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imili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 midday the illusions merged into the sky and there the sun gazed down like an angry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“littlu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cuss:  What is it like being 6 years old on this island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Our closer look at Roger!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is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your evaluation of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ack is really starting to change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looked in astonishment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 longer at himself but at an awesome strang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He spilt the water and leapt to his feet, laughing excite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the Title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ide the pool his sinewy body held up a mask tha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rew their eyes and appalled the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He began to dance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 laughter became a bloodthirsty snarl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(next slid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64 continu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capered toward Bill, and the mask was a thing on its own, behind which Jack hid, liberated from the shame and self-consciousnes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the other “biguns” like Pig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had grown up tacitly among the biguns the opinion that Piggy was an outsider, not only by accent, which did not matter, but by fat, and ass-mar, and specs, and a certain disinclination for manual labo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HAPPENING ON THIS PAGE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 Unicode MS"/>
              </a:rPr>
              <a:t>Page 6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It’s a BIG EVENT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46:39Z</dcterms:created>
  <dc:creator>BPS</dc:creator>
  <dc:description/>
  <dc:language>en-US</dc:language>
  <cp:lastModifiedBy>BPS</cp:lastModifiedBy>
  <dcterms:modified xsi:type="dcterms:W3CDTF">2009-12-15T15:38:13Z</dcterms:modified>
  <cp:revision>16</cp:revision>
  <dc:subject/>
  <dc:title>Chapter 4</dc:title>
</cp:coreProperties>
</file>